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CBA-BE1B-4218-AC9A-16494A02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5FB-E38D-45EA-999A-2C306BBB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5C2-AFFE-49DF-B880-8659CC47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FD3-4DFD-4EDE-8D77-B8B6CEE3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291-60E5-470C-934A-BE80212A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5D85-4E2A-41BA-B1E1-CC12FD88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E598-592C-4A35-9B71-7BA80C9D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4F6E-82F7-44FB-9D7A-99DA5158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C81E-6630-414E-A067-D83D640E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18E9-B23D-42B1-92AA-BCF16CB3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EEB7-B9C6-444F-8765-9D104C78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751-A17C-4216-820F-CCC52485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A0F0-5D0A-4FBA-B717-16BB6272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4FCC-14B3-498A-B8C8-09850C0C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3E23-462D-4AE1-9B83-B840829E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0FE7-9A16-4011-B6A6-9C854707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0660-73B7-452D-B7DB-5E7AAEB0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C9B3-D2CC-4785-98CF-6889B659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DE32-502F-4DC7-8029-C870E404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D4BA-52DB-41E9-97FD-756D30D0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75D6C-0ED8-4A38-BB11-523DB23E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72AD6-139B-42B5-BB65-27565C20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6B5-88CE-4859-9E92-9B10966B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C8BC7-C414-4583-98D6-A02E3500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75C3-0BDA-4C3B-9946-8BEC7A93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1CF3C-83BB-40B1-B40A-F89C7D73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ECED7-5365-41E6-845C-340A72BF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AF10-8937-4AFC-8F17-9EDFE848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01FBF-0789-47FB-9243-838A675F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C067-644E-42B1-BA45-00D1ACA4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80380-073A-4CA2-874B-F4A7C18C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3EADD-AD1F-46A9-85C7-49C712A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C1DA-0635-481C-A524-08367F1C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CE2-DAAA-4E96-823E-D04AF6D2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8EDF5-65A3-4674-B024-088C42E3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66B6F-B4C9-4959-8966-17B96C66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DFAA8-0DDD-42A1-A772-1107A487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B7C06-A861-4A27-80CC-C4BCE063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F9B5-8CD7-4A42-B41A-420E534C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3B6E8-61D3-42CE-A291-9AA7140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C168-4806-4816-AD0B-BB58EFAC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4FB0-69B9-4FAB-8B05-3F50F448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9A64-EFAB-4D4F-BADD-56B7FC7B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A70-2775-4304-9D8B-239D8B47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E50-89E7-41E3-9D54-3D359C3B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142-391E-421A-BDFB-3E127F61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1FE-50F3-4197-B527-A6BE5BF4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8B7-AC7B-4D2E-AEB1-C1FF88B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DBB0-C5A7-494C-97DA-A5C26DAE8202}" type="slidenum"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17D3-7B69-4B88-9376-7697108509F5}" type="slidenum"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F249-8C17-4D50-A889-61FB9D7A5392}" type="slidenum"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F669-3EE4-4FD2-9683-61F5F6B9D42D}" type="slidenum"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america.edu.co/index.php?id=67/guiametogologica" TargetMode="External"/><Relationship Id="rId2" Type="http://schemas.openxmlformats.org/officeDocument/2006/relationships/hyperlink" Target="http://orton.catie.ac.cr/cgi-hin/wxis.exe/?IsisScript=AGRISUM.xis&amp;method=post&amp;formato=2&amp;cantidad=1&amp;expresion=mfn=000235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6760" y="1285920"/>
            <a:ext cx="857268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400" spc="-1" strike="noStrike">
                <a:solidFill>
                  <a:srgbClr val="ebebeb"/>
                </a:solidFill>
                <a:latin typeface="Arial"/>
                <a:ea typeface="Arial"/>
              </a:rPr>
              <a:t>UNIVERSIDAD DE AMERICA</a:t>
            </a:r>
            <a:br>
              <a:rPr sz="4400"/>
            </a:br>
            <a:r>
              <a:rPr b="1" lang="es-ES_tradnl" sz="4400" spc="-1" strike="noStrike">
                <a:solidFill>
                  <a:srgbClr val="ebebeb"/>
                </a:solidFill>
                <a:latin typeface="Arial"/>
                <a:ea typeface="Arial"/>
              </a:rPr>
              <a:t>INGENIERÍA QUIMICA</a:t>
            </a:r>
            <a:br>
              <a:rPr sz="4400"/>
            </a:b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ebebeb"/>
                </a:solidFill>
                <a:latin typeface="Arial"/>
                <a:ea typeface="Arial"/>
              </a:rPr>
              <a:t>Julio </a:t>
            </a:r>
            <a:r>
              <a:rPr b="1" lang="es-ES_tradnl" sz="2400" spc="-1" strike="noStrike">
                <a:solidFill>
                  <a:srgbClr val="ebebeb"/>
                </a:solidFill>
                <a:latin typeface="Arial"/>
                <a:ea typeface="Arial"/>
              </a:rPr>
              <a:t>de 2016</a:t>
            </a: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32000" y="501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8ad0d6"/>
                </a:solidFill>
                <a:latin typeface="Arial"/>
                <a:ea typeface="Arial"/>
              </a:rPr>
              <a:t>SEMINARIO DE PROYECTO DE GRAD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172840" y="623736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COMITÉ DE PROYECTO DE G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IQ LEONARDO DE J. HERRERA 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Imagen 1" descr=""/>
          <p:cNvPicPr/>
          <p:nvPr/>
        </p:nvPicPr>
        <p:blipFill>
          <a:blip r:embed="rId1"/>
          <a:stretch/>
        </p:blipFill>
        <p:spPr>
          <a:xfrm>
            <a:off x="358920" y="11592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755640" y="333360"/>
            <a:ext cx="792972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bebeb"/>
                </a:solidFill>
                <a:latin typeface="Arial"/>
              </a:rPr>
              <a:t>¿</a:t>
            </a:r>
            <a:r>
              <a:rPr b="1" lang="es-MX" sz="3200" spc="-1" strike="noStrike">
                <a:solidFill>
                  <a:srgbClr val="ebebeb"/>
                </a:solidFill>
                <a:latin typeface="Arial"/>
              </a:rPr>
              <a:t>CÓMO RECONOCER QUE ES UN TEMA PERTINENTE DE INVESTIGACION EN IQ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EXPERI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DISEÑO DE INGENI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PROCESOS QUIM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BIOTECNOLOGIA, BIOQUI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DESARROLL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284720" y="4005360"/>
            <a:ext cx="4535280" cy="25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CONTROL DE PROC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NORMAS DE C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IMPACTO INDUST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IMPACTOS  SO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6920" y="304560"/>
            <a:ext cx="6913800" cy="15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200" spc="-1" strike="noStrike">
                <a:solidFill>
                  <a:srgbClr val="ebebeb"/>
                </a:solidFill>
                <a:latin typeface="Arial"/>
                <a:ea typeface="Arial"/>
              </a:rPr>
              <a:t>ÁREAS DE INGERENCIA</a:t>
            </a:r>
            <a:br>
              <a:rPr sz="4200"/>
            </a:br>
            <a:r>
              <a:rPr b="0" lang="es-ES_tradnl" sz="2800" spc="-1" strike="noStrike">
                <a:solidFill>
                  <a:srgbClr val="ebebeb"/>
                </a:solidFill>
                <a:latin typeface="Arial"/>
                <a:ea typeface="Arial"/>
              </a:rPr>
              <a:t>(Algunos posibles campos de acción para desarrollar Proyectos de IQ):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entury Gothic"/>
              </a:rPr>
              <a:t>PROCESOS</a:t>
            </a:r>
            <a:r>
              <a:rPr b="1" lang="es-ES_tradnl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(Diagnósticos, Operación, Control, Sustitución de recursos, Mejoramiento, Normalización, Auditorías...)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entury Gothic"/>
              </a:rPr>
              <a:t>GESTIÓN DE CALIDAD </a:t>
            </a: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(Diagnósticos,Mejoramiento, Documentación, Auditorías, Sistemas, ISO 9000,...)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entury Gothic"/>
              </a:rPr>
              <a:t>APLICACIONES ESPECÍFICAS </a:t>
            </a:r>
            <a:r>
              <a:rPr b="0" lang="es-ES_tradnl" sz="2600" spc="-1" strike="noStrike">
                <a:solidFill>
                  <a:srgbClr val="ffff00"/>
                </a:solidFill>
                <a:latin typeface="Century Gothic"/>
              </a:rPr>
              <a:t>(</a:t>
            </a: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por ejemplo, Diseño de paquetes de Software,...)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Century Gothic"/>
              </a:rPr>
              <a:t>BPM, HAZZAP, HCCP</a:t>
            </a:r>
            <a:r>
              <a:rPr b="1" lang="es-ES_tradnl" sz="2600" spc="-1" strike="noStrike">
                <a:solidFill>
                  <a:srgbClr val="ffffff"/>
                </a:solidFill>
                <a:latin typeface="Century Gothic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ebebeb"/>
                </a:solidFill>
                <a:latin typeface="Century Gothic"/>
              </a:rPr>
              <a:t>FUENTE DE TEMAS DE PROYECTOS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42960" y="149976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entury Gothic"/>
              </a:rPr>
              <a:t>Problemas del entorno industrial e institucional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entury Gothic"/>
              </a:rPr>
              <a:t>Mejoramiento de situaciones actuales en la industria o institucion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entury Gothic"/>
              </a:rPr>
              <a:t>Continuación de investigaciones anteriores.(trabajos de grado)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entury Gothic"/>
              </a:rPr>
              <a:t>Consultas a profesores y profesionales de la industria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Century Gothic"/>
              </a:rPr>
              <a:t>Consultas con el departamento de Investigación</a:t>
            </a:r>
            <a:r>
              <a:rPr b="1" lang="es-MX" sz="2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43912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entury Gothic"/>
              </a:rPr>
              <a:t>EL PROYECTO DE GRADO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Century Gothic"/>
              </a:rPr>
              <a:t>ES UN PROCESO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124080" y="2933640"/>
            <a:ext cx="2895840" cy="22100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4"/>
          <p:cNvSpPr/>
          <p:nvPr/>
        </p:nvSpPr>
        <p:spPr>
          <a:xfrm flipV="1">
            <a:off x="6156360" y="3885840"/>
            <a:ext cx="625320" cy="3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441520" y="3429000"/>
            <a:ext cx="682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441520" y="4033800"/>
            <a:ext cx="606600" cy="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3429000" y="2286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4572000" y="2286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5562720" y="2200320"/>
            <a:ext cx="6120" cy="733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"/>
          <p:cNvSpPr/>
          <p:nvPr/>
        </p:nvSpPr>
        <p:spPr>
          <a:xfrm flipV="1">
            <a:off x="2441520" y="4724280"/>
            <a:ext cx="606600" cy="5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1"/>
          <p:cNvSpPr/>
          <p:nvPr/>
        </p:nvSpPr>
        <p:spPr>
          <a:xfrm flipH="1" flipV="1">
            <a:off x="3809520" y="5181120"/>
            <a:ext cx="41400" cy="335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2"/>
          <p:cNvSpPr/>
          <p:nvPr/>
        </p:nvSpPr>
        <p:spPr>
          <a:xfrm flipH="1" flipV="1">
            <a:off x="5257440" y="5181480"/>
            <a:ext cx="34920" cy="408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6918840" y="3429000"/>
            <a:ext cx="19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TITUL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INGENI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486360" y="18288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royectista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2971800" y="226224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3621960" y="149868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OMITÉ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PROY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5562720" y="2262240"/>
            <a:ext cx="761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6477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6590520" y="1860480"/>
            <a:ext cx="20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Orient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Jura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valu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2130840" y="578628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r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4669560" y="57913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odir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311040" y="3429000"/>
            <a:ext cx="19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mpresa 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Institu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pon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700" spc="-1" strike="noStrike">
                <a:solidFill>
                  <a:srgbClr val="ffff00"/>
                </a:solidFill>
                <a:latin typeface="Arial"/>
                <a:ea typeface="Arial"/>
              </a:rPr>
              <a:t>TRAER PARA LA PRIMERA SEMANA DE CLASE DE SEMINARIO VARIOS TEMAS EN BLANCO Y NEGRO PARA DISCUSIÓN EN CLASE.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3700" spc="-1" strike="noStrike">
                <a:solidFill>
                  <a:srgbClr val="ffffff"/>
                </a:solidFill>
                <a:latin typeface="Century Gothic"/>
              </a:rPr>
              <a:t>CPG IQ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329" name="5 Rectángulo"/>
          <p:cNvSpPr/>
          <p:nvPr/>
        </p:nvSpPr>
        <p:spPr>
          <a:xfrm>
            <a:off x="3491640" y="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42960" y="856800"/>
            <a:ext cx="81043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Ramirez, A. (2009). </a:t>
            </a:r>
            <a:r>
              <a:rPr b="0" i="1" lang="es-MX" sz="1400" spc="-1" strike="noStrike">
                <a:solidFill>
                  <a:srgbClr val="ffffff"/>
                </a:solidFill>
                <a:latin typeface="Century Gothic"/>
              </a:rPr>
              <a:t>METODOLOGIA DE LA INVESTIGACION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. Editorial Universidad javeriana. Bogota, Colombia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Saravia, M. (2010). </a:t>
            </a:r>
            <a:r>
              <a:rPr b="0" i="1" lang="es-MX" sz="1400" spc="-1" strike="noStrike">
                <a:solidFill>
                  <a:srgbClr val="ffffff"/>
                </a:solidFill>
                <a:latin typeface="Century Gothic"/>
              </a:rPr>
              <a:t>METODOLOGIA DE LA INVESTIGACIONPROBLEMAS DE INGENIERIA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. Bueno Aires. Argentina. Editoriales Manantial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O" sz="1700" spc="-1" strike="noStrike">
                <a:solidFill>
                  <a:srgbClr val="ffffff"/>
                </a:solidFill>
                <a:latin typeface="Century Gothic"/>
              </a:rPr>
              <a:t>CIBERGRAFIA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Century Gothic"/>
              </a:rPr>
              <a:t>GUIA METODOLOGICA PARA ELABORACION DE PROYECTOS DE GRADO.</a:t>
            </a:r>
            <a:r>
              <a:rPr b="1" lang="es-ES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Facultad de Ingenierías Universidad de América. (2010). Recuperado el 22 Abril de 2011, de  </a:t>
            </a:r>
            <a:r>
              <a:rPr b="0" lang="es-ES" sz="1400" spc="-1" strike="noStrike" u="sng">
                <a:solidFill>
                  <a:srgbClr val="58c1ba"/>
                </a:solidFill>
                <a:uFillTx/>
                <a:latin typeface="Century Gothic"/>
                <a:hlinkClick r:id="rId1"/>
              </a:rPr>
              <a:t>http://www.uamerica.edu.co/index.php?id=67/guiametogologic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MX" sz="1400" spc="-1" strike="noStrike">
                <a:solidFill>
                  <a:srgbClr val="ffffff"/>
                </a:solidFill>
                <a:latin typeface="Century Gothic"/>
              </a:rPr>
              <a:t>LOS PROBLEMAS EN INGENIERIA. </a:t>
            </a: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Hernandez, R. (2001) Recuperado en 22 de mayo de 2011, de  </a:t>
            </a:r>
            <a:r>
              <a:rPr b="0" lang="es-ES" sz="1400" spc="-1" strike="noStrike" u="sng">
                <a:solidFill>
                  <a:srgbClr val="58c1ba"/>
                </a:solidFill>
                <a:uFillTx/>
                <a:latin typeface="Century Gothic"/>
                <a:hlinkClick r:id="rId2"/>
              </a:rPr>
              <a:t>http://</a:t>
            </a:r>
            <a:r>
              <a:rPr b="0" i="1" lang="es-CO" sz="1400" spc="-1" strike="noStrike">
                <a:solidFill>
                  <a:srgbClr val="ffffff"/>
                </a:solidFill>
                <a:latin typeface="Century Gothic"/>
              </a:rPr>
              <a:t>www.ie.itcr.ac.cr/.../El%20</a:t>
            </a:r>
            <a:r>
              <a:rPr b="1" i="1" lang="es-CO" sz="1400" spc="-1" strike="noStrike">
                <a:solidFill>
                  <a:srgbClr val="ffffff"/>
                </a:solidFill>
                <a:latin typeface="Century Gothic"/>
              </a:rPr>
              <a:t>Problema</a:t>
            </a:r>
            <a:r>
              <a:rPr b="0" i="1" lang="es-CO" sz="1400" spc="-1" strike="noStrike">
                <a:solidFill>
                  <a:srgbClr val="ffffff"/>
                </a:solidFill>
                <a:latin typeface="Century Gothic"/>
              </a:rPr>
              <a:t>%20en%20</a:t>
            </a:r>
            <a:r>
              <a:rPr b="1" i="1" lang="es-CO" sz="1400" spc="-1" strike="noStrike">
                <a:solidFill>
                  <a:srgbClr val="ffffff"/>
                </a:solidFill>
                <a:latin typeface="Century Gothic"/>
              </a:rPr>
              <a:t>ingeniería</a:t>
            </a:r>
            <a:r>
              <a:rPr b="0" i="1" lang="es-CO" sz="1400" spc="-1" strike="noStrike">
                <a:solidFill>
                  <a:srgbClr val="ffffff"/>
                </a:solidFill>
                <a:latin typeface="Century Gothic"/>
              </a:rPr>
              <a:t>%20No.3.pp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Century Gothic"/>
              </a:rPr>
              <a:t>IDENTIFICACION DE PROBLEMAS EN LA INDUSTRIA.</a:t>
            </a:r>
            <a:r>
              <a:rPr b="1" lang="es-ES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Puis, D. (2005). Instituto Tecnológico y de Estudios Superiores de Monterrey. Recuperado el 12 Mayo de 2011, de  </a:t>
            </a:r>
            <a:r>
              <a:rPr b="0" lang="es-ES" sz="1400" spc="-1" strike="noStrike" u="sng">
                <a:solidFill>
                  <a:srgbClr val="ffffff"/>
                </a:solidFill>
                <a:uFillTx/>
                <a:latin typeface="Century Gothic"/>
              </a:rPr>
              <a:t>http://www.aie.cl/files/file/comites/ca/articulos/diciembre-05.pdf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3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3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31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31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s-ES" sz="17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1" name="Imagen 1" descr=""/>
          <p:cNvPicPr/>
          <p:nvPr/>
        </p:nvPicPr>
        <p:blipFill>
          <a:blip r:embed="rId3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332" name="5 Rectángulo"/>
          <p:cNvSpPr/>
          <p:nvPr/>
        </p:nvSpPr>
        <p:spPr>
          <a:xfrm>
            <a:off x="2737440" y="214200"/>
            <a:ext cx="39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BIBLIOGRAF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532764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800" spc="-1" strike="noStrike">
                <a:solidFill>
                  <a:srgbClr val="ebebeb"/>
                </a:solidFill>
                <a:latin typeface="Century Gothic"/>
              </a:rPr>
              <a:t>FIN DE LA PRESENTACIÓN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34" name="Picture 3" descr="J0186164"/>
          <p:cNvPicPr/>
          <p:nvPr/>
        </p:nvPicPr>
        <p:blipFill>
          <a:blip r:embed="rId1"/>
          <a:stretch/>
        </p:blipFill>
        <p:spPr>
          <a:xfrm>
            <a:off x="990720" y="2666880"/>
            <a:ext cx="2209680" cy="38102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4"/>
          <p:cNvSpPr/>
          <p:nvPr/>
        </p:nvSpPr>
        <p:spPr>
          <a:xfrm>
            <a:off x="4038480" y="2133720"/>
            <a:ext cx="4419720" cy="1600200"/>
          </a:xfrm>
          <a:prstGeom prst="wedgeRoundRectCallout">
            <a:avLst>
              <a:gd name="adj1" fmla="val -66162"/>
              <a:gd name="adj2" fmla="val 39087"/>
              <a:gd name="adj3" fmla="val 16667"/>
            </a:avLst>
          </a:prstGeom>
          <a:solidFill>
            <a:srgbClr val="b0151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¡ Muchas GRAC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 la a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por su tiempo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ángulo 1"/>
          <p:cNvSpPr/>
          <p:nvPr/>
        </p:nvSpPr>
        <p:spPr>
          <a:xfrm>
            <a:off x="2987640" y="4941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Times New Roman"/>
              </a:rPr>
              <a:t>https://trabajodegradouamerica.wikispace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85520" y="1341360"/>
            <a:ext cx="8034120" cy="468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1. PRESENTACION DEL SYLLABVS DE LA ASIGNATUR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2. ELEMENTOS A TENER EN CUENTA PARA EL DESARROLLO DEL PROYECTO DE GRADO (ING. LEONARDO HERRERA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3. PRESENTACION DE LOS INTEGRANTES DEL COMITE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4. CRONOGRAMA DE ACTIVIDADES DEL SEMINARIO (ING. ELIZABETH TORRES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5. PRESENTACION DE LOS TEMAS POR PARTE DE LOS ESTUDIANTE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39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"/>
          <p:cNvSpPr/>
          <p:nvPr/>
        </p:nvSpPr>
        <p:spPr>
          <a:xfrm>
            <a:off x="1042920" y="765000"/>
            <a:ext cx="712152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AGENDA DE LA REUN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85520" y="1483920"/>
            <a:ext cx="8178840" cy="517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1.El trabajo de grado es una aplicación teórico -practica (investigación) de los conocimientos , destrezas  y competencias adquiridas durante el proceso de formación profesional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2. Sirve para el análisis de casos de investigación, solución de problemas de la industria y aprovechamiento de oportunidades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3. Es una oportunidad para que los estudiantes evalúen los conocimientos adquiridos y los pongan en práctic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4. Es una de las modalidades para optar por el título profesional de los diferentes programas ofrecidos por la Universidad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5. Orientado por el comité de proyectos de grado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ebebeb"/>
                </a:solidFill>
                <a:latin typeface="Arial"/>
                <a:ea typeface="Arial"/>
              </a:rPr>
              <a:t>6. Desarrollado bajo las normas de la Institución y de las normas ICONTEC  vigentes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2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DEFINICION DE PROYECTO DE GR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67360" cy="37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ebebeb"/>
                </a:solidFill>
                <a:latin typeface="Century Gothic"/>
              </a:rPr>
              <a:t>1</a:t>
            </a:r>
            <a:r>
              <a:rPr b="1" lang="es-ES_tradnl" sz="2400" spc="-1" strike="noStrike">
                <a:solidFill>
                  <a:srgbClr val="ebebeb"/>
                </a:solidFill>
                <a:latin typeface="Arial"/>
                <a:ea typeface="Arial"/>
              </a:rPr>
              <a:t>. Órgano colegiado constituido por docentes y profesionales idóneos y con la experticia para orientar y dirigir las diferentes etapas del proceso investigativo del proyecto de grado.</a:t>
            </a:r>
            <a:br>
              <a:rPr sz="2400"/>
            </a:br>
            <a:r>
              <a:rPr b="1" lang="es-ES_tradnl" sz="2400" spc="-1" strike="noStrike">
                <a:solidFill>
                  <a:srgbClr val="ebebeb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es-ES_tradnl" sz="2400" spc="-1" strike="noStrike">
                <a:solidFill>
                  <a:srgbClr val="ebebeb"/>
                </a:solidFill>
                <a:latin typeface="Arial"/>
                <a:ea typeface="Arial"/>
              </a:rPr>
              <a:t>2. Que propende por el cumplimiento y desarrollo de los objetivos de las asignaturas de seminario de proyecto de grado y trabajo de Grado.</a:t>
            </a:r>
            <a:br>
              <a:rPr sz="2400"/>
            </a:br>
            <a:r>
              <a:rPr b="1" lang="es-ES_tradnl" sz="2400" spc="-1" strike="noStrike">
                <a:solidFill>
                  <a:srgbClr val="ebebeb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45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108080" y="54936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DEFINICION DE COMITÉ DE PROYECTOS DE GR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8440" y="549360"/>
            <a:ext cx="65228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ETAPAS DEL PROYECTO DE GRADO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928800" y="2322360"/>
            <a:ext cx="76755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PLANEACION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Seminario de proyecto de gr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2.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JECUCION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TRABAJO DE G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3.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NTREGRA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Sustentación, correcciones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y gradu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920" y="620640"/>
            <a:ext cx="91440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ebebeb"/>
                </a:solidFill>
                <a:latin typeface="Century Gothic"/>
              </a:rPr>
              <a:t>EL PROYECTO DE GRADO COMO UN PROCESO TECNICO-ADMINISTRATIVO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" y="1981080"/>
            <a:ext cx="8153280" cy="44960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429000" y="2133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352680" y="22096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01513"/>
                </a:solidFill>
                <a:latin typeface="Verdana"/>
              </a:rPr>
              <a:t>CONCEPCIÓN DE LA 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352680" y="29718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01513"/>
                </a:solidFill>
                <a:latin typeface="Verdana"/>
              </a:rPr>
              <a:t>DEFINICIÓN DEL 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352680" y="38862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01513"/>
                </a:solidFill>
                <a:latin typeface="Verdana"/>
              </a:rPr>
              <a:t>ESTRUCTURAR PROPUE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352680" y="47242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01513"/>
                </a:solidFill>
                <a:latin typeface="Verdana"/>
              </a:rPr>
              <a:t>ELABORAR ANTE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3352680" y="56386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01513"/>
                </a:solidFill>
                <a:latin typeface="Verdana"/>
              </a:rPr>
              <a:t>EJECUCIÓN DEL 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5943600" y="26668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5943600" y="51814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943600" y="6095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5"/>
          <p:cNvSpPr/>
          <p:nvPr/>
        </p:nvSpPr>
        <p:spPr>
          <a:xfrm flipH="1">
            <a:off x="2819160" y="58672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>
            <a:off x="2819520" y="24382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17"/>
          <p:cNvSpPr/>
          <p:nvPr/>
        </p:nvSpPr>
        <p:spPr>
          <a:xfrm flipV="1">
            <a:off x="2819520" y="2437920"/>
            <a:ext cx="0" cy="3429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2819520" y="41148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380880" y="3429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laneación y Program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3"/>
          <p:cNvSpPr/>
          <p:nvPr/>
        </p:nvSpPr>
        <p:spPr>
          <a:xfrm>
            <a:off x="743040" y="5283360"/>
            <a:ext cx="16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y Contr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914400" y="51055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25"/>
          <p:cNvSpPr/>
          <p:nvPr/>
        </p:nvSpPr>
        <p:spPr>
          <a:xfrm>
            <a:off x="838080" y="6324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26"/>
          <p:cNvSpPr/>
          <p:nvPr/>
        </p:nvSpPr>
        <p:spPr>
          <a:xfrm>
            <a:off x="91440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V="1">
            <a:off x="1523880" y="51055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1523880" y="6019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9"/>
          <p:cNvSpPr/>
          <p:nvPr/>
        </p:nvSpPr>
        <p:spPr>
          <a:xfrm flipV="1">
            <a:off x="1523880" y="21337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30"/>
          <p:cNvSpPr/>
          <p:nvPr/>
        </p:nvSpPr>
        <p:spPr>
          <a:xfrm>
            <a:off x="1523880" y="426708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9184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VALORES AGREGADOS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81" name="Picture 3" descr="IDEA"/>
          <p:cNvPicPr/>
          <p:nvPr/>
        </p:nvPicPr>
        <p:blipFill>
          <a:blip r:embed="rId1"/>
          <a:stretch/>
        </p:blipFill>
        <p:spPr>
          <a:xfrm>
            <a:off x="1116000" y="2665440"/>
            <a:ext cx="1295280" cy="393552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2916360" y="2490840"/>
            <a:ext cx="572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Qué me gust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Qué quiero hac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En qué quiero destacar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Qué fortalezas teng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Qué recursos tengo disponib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Cuál es la disciplina profesional preferid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¿Lo desarrollo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sólo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o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compañí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? (Con quién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914400" y="10666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Es una valiosa oportunidad para profundizar en los temas y aspectos de formación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Arial"/>
              </a:rPr>
              <a:t>Es la carta de presentación para ingresar al mundo laboral y profes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Imagen 1" descr=""/>
          <p:cNvPicPr/>
          <p:nvPr/>
        </p:nvPicPr>
        <p:blipFill>
          <a:blip r:embed="rId2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600" spc="-1" strike="noStrike">
                <a:solidFill>
                  <a:srgbClr val="ebebeb"/>
                </a:solidFill>
                <a:latin typeface="Century Gothic"/>
              </a:rPr>
              <a:t>MANERAS DE REALIZAR UN PROYECTO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6" name="Oval 3"/>
          <p:cNvSpPr/>
          <p:nvPr/>
        </p:nvSpPr>
        <p:spPr>
          <a:xfrm>
            <a:off x="6516720" y="1852560"/>
            <a:ext cx="2133720" cy="21938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XCEL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611280" y="1852560"/>
            <a:ext cx="2133360" cy="219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348000" y="1852560"/>
            <a:ext cx="2286000" cy="2265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ISFACTO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6286680" y="4143240"/>
            <a:ext cx="264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DESTACA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Innovar en  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alidad en la Investig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portes profesion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or agreg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571680" y="4143240"/>
            <a:ext cx="2603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PROBAR  S Y T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sistir a cl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er tem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ustentar ante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umplir con fech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3278160" y="4143240"/>
            <a:ext cx="30002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imes New Roman"/>
              </a:rPr>
              <a:t>APROVECHAR OPORTUN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Investigar y profundi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articipar en los tall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plicar los conocimien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sultar con los orient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ebebeb"/>
                </a:solidFill>
                <a:latin typeface="Century Gothic"/>
              </a:rPr>
              <a:t>LA CONCEPCION Y DEFINICION DE  LOS TEMAS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Se concibe la idea  y se hace una evaluación preliminar de su factibilidad  partiendo de problemas, investigaciones,  soluciones técnicas y oportunidades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Es novedoso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Es útil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Responde a una necesidad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Existen recursos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Es retador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A quienes interesaría? ¿Puedo obtener soporte técnico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  <a:ea typeface="Arial"/>
              </a:rPr>
              <a:t>¿Es pertinente, actual e innovador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¿Cuál es el área  académica en que se desarrollará la investigación?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5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03:58:31Z</dcterms:created>
  <dc:creator>Julio César Fuentes Arismendi</dc:creator>
  <dc:description>Presentación motivacional a los estudiantes del 8o. semestre el 11 Nov. 2005</dc:description>
  <dc:language>en-US</dc:language>
  <cp:lastModifiedBy>Usuario</cp:lastModifiedBy>
  <dcterms:modified xsi:type="dcterms:W3CDTF">2016-07-26T21:45:41Z</dcterms:modified>
  <cp:revision>76</cp:revision>
  <dc:subject/>
  <dc:title>EL ANTEPROYECTO DE GRADO</dc:title>
</cp:coreProperties>
</file>